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4C5-05DF-4B27-A12F-066344ED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606-1E45-44D1-A4B8-1573FD3A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786-FA84-4F23-9AE7-4826F1AC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99E-59C4-473A-A746-AB498E1A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92E-FCB4-4A47-BC7E-7367A77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A4D-A3C2-44BC-B107-A81B44F2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9886-49E7-446E-A906-5B3BA38B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70F-EAE3-4B64-A4FA-BC70CBD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42C-D818-411E-9FD9-6AAC0258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4E1-A88B-48E4-8007-0F3D943E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CFC-A257-4D49-BEF8-074AF40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E02-F2D4-401B-B03C-8D950610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EC67-9B31-458E-A018-860F6BB8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o I Sail With?  NHD 20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istory Day 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92200" y="1447920"/>
            <a:ext cx="439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do I work with - if an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1174680"/>
            <a:ext cx="4724280" cy="3137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s” are good partners you cho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ls repres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ople who will work hard and share the load in ways that make NHD faster, more efficient, and more enjo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5 people make up any group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do I work with - if an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4343040"/>
            <a:ext cx="876312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chors” represent people who oftentimes choose to be . . 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zy and don’t help much, 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dians who provide a lot of laughs but little effort, 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mply looking for you to ‘carry’ them through the project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to be “in charge” all the time and do not accept any other ideas or argue all th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2895480" cy="285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895480" cy="2859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1295280"/>
            <a:ext cx="2895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CHOR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00200" cy="1578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480" y="2362320"/>
            <a:ext cx="78487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ake up room and slow your ship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ink your “ship” and then you can’t get your project in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…if ever. (You might have to do a “salvage job” – a l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 catch-up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g to come on board ship, but once you are out to se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orking on the project) they can hold you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gically turn into “sails” if they are on a quality ship. 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is yours to take or not t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left behind even though they may be off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decision that is best for your “ship” and you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hould I always gather “sails” and avoid “anchors”?</a:t>
            </a:r>
            <a:br>
              <a:rPr sz="3800"/>
            </a:b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You can choose to sail alone.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25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“sails” get tangled and don’t work well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“sail” alone there is only one sail and it sails the boat very easil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ist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project’s success only depends on you—there is no one else to bl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iling Alon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00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As An Individ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increase your independen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be the only decision mak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work when and where you wa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not face differences in opinion and work eth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be responsible for all cos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on’t use collaborative skill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on’t have a partner(s) to motivate you during “down times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1752840" cy="131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152280"/>
            <a:ext cx="1752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iling toge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85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king as A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d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improve collaborative skill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share project cos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make decisions toget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can draw on one another’s strengths and talen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may have scheduling difficulti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may have differences of opin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may have differences in work ethic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will have increased communication dema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190476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ak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ing the right people or choosing working alone is one of the key elements in managing a quality NH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ne of the first decisions you must make, and it is certainly one of the BIGGEST !!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be able to choose your group, but in the end you “sail” or “sink” toge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leave the “harbor” on Wednesday 1/18/12 all your “sails” or “anchors” will be on board for the entire trip -- and you cannot “throw them over the side” once you are under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other words NO SWITCHING GROU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777080" y="22860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548640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315200" y="571500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4:29:21Z</dcterms:created>
  <dc:creator>kbenson</dc:creator>
  <dc:description/>
  <dc:language>en-US</dc:language>
  <cp:lastModifiedBy>jobert</cp:lastModifiedBy>
  <dcterms:modified xsi:type="dcterms:W3CDTF">2012-01-11T21:46:47Z</dcterms:modified>
  <cp:revision>10</cp:revision>
  <dc:subject/>
  <dc:title>Who Do I Sail With?  NHD 2009 The History Day Ship</dc:title>
</cp:coreProperties>
</file>